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5C7B-88B4-457A-95FF-ADBF1092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6AD-362E-4C93-A6B4-6B55B61B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765-E805-45D6-8FA2-7CFD4B82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918-EBE6-4EBD-84A5-145372DB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A5D-95B2-47AE-9426-B4756E45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E88-F7BE-4EA6-9FE2-0A207EAE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B53-D905-4148-ACB3-3A44705C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641-8E0A-4093-B8F3-FBE939C3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B40-B69A-4478-91DD-15E73DF1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DBE-EEC8-4E7C-A409-C8FF852E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149-A964-4C2D-B031-FD1A1329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4C9-BEDD-40F8-9000-62F1E906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27AC-CE12-4608-82A5-72BEE7E8E6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280" y="16002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62673"/>
                </a:solidFill>
                <a:latin typeface="Arial"/>
              </a:rPr>
              <a:t>PRESENTACIÓN UNIVERS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62673"/>
                </a:solidFill>
                <a:latin typeface="Arial"/>
              </a:rPr>
              <a:t>REUNIÓN COMISION NACIONAL DE AGRICULTURA ORGÁ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62673"/>
                </a:solidFill>
                <a:latin typeface="Arial"/>
              </a:rPr>
              <a:t>Martes 7 de diciembre de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querimientos para Mejorar el Desarrollo de la Agricultura Orgánica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oyar el desarrollo del mercado interno de  alimentos orgánicos. Estimular a través de Supermercados, tiendas especializadas, ferias libres , etc (JUAE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cilitar  el apoyo  de fondos de investigación y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talecer las  capacidades técnicas  en  transferencia tecnológica para la agricultura orgánica,  en los organismos del ministerio de agricultura tales como, Indap, SA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mación de técnicos y profesionales en los distintos ámbitos de la producción orgá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querimientos para Mejorar el Desarrollo de la Agricultura Org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ización de profesionales, técnicos y agricultores en tecnologías de producción orgá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talecimiento de las organizaciones de productores orgá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arrollo de redes de predios demostrativos  y de formación para la agricultura orgá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nculación de los sistemas públicos de asesoría técnica con los requerimientos de la agricultura orgá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1916280"/>
            <a:ext cx="82184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vesti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PTO-FIA  duración hasta 2011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ción sustentable, post cosecha y comercialización de frutas y hortalizas orgánicas en la VII y VIII región para el mercado internacional y nacional de productos frescos y agroindust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ocencia en Pregra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 parte de curso de Fundamentos de  Olericultura y Producción Hortí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utalca1"/>
          <p:cNvPicPr/>
          <p:nvPr/>
        </p:nvPicPr>
        <p:blipFill>
          <a:blip r:embed="rId1"/>
          <a:stretch/>
        </p:blipFill>
        <p:spPr>
          <a:xfrm>
            <a:off x="3851280" y="404640"/>
            <a:ext cx="1038240" cy="1425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5"/>
          <p:cNvPicPr/>
          <p:nvPr/>
        </p:nvPicPr>
        <p:blipFill>
          <a:blip r:embed="rId2"/>
          <a:stretch/>
        </p:blipFill>
        <p:spPr>
          <a:xfrm>
            <a:off x="324000" y="5734080"/>
            <a:ext cx="85341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sis y Memori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s de 10 memorias de título y  4 tesis de  Magí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tensión y Vinculación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ías de Campo, Seminarios, Talleres realizado para pro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cer Simposio Internacional de Agricultura Orgánica.  Chillán , 7,8 y 9 de septiembre  2010, organizado con el Centro Regional INIA Quilamap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ciones experiment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 hectáreas bajo certificación orgá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ción de V Simposio Internacional de Agricultura Orgánica, en conjunto con la Universidad de la Fron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banner_superior"/>
          <p:cNvPicPr/>
          <p:nvPr/>
        </p:nvPicPr>
        <p:blipFill>
          <a:blip r:embed="rId1"/>
          <a:stretch/>
        </p:blipFill>
        <p:spPr>
          <a:xfrm>
            <a:off x="324000" y="6000840"/>
            <a:ext cx="8534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ernativas de manejo para mejorar la vida de post cosecha de frutas y hortalizas orgánicas para el mercado fres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spección y clasificación de agricultores, superficie y zonas para la producción orgánica de frutas y hortalizas en la VII y VIII reg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ernativas de comercialización y marketing para desarrollar el mercado nacional de frutas y hortalizas orgán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80808"/>
                </a:solidFill>
                <a:latin typeface="Arial"/>
              </a:rPr>
              <a:t>Evaluación de sostenibilidad de sistemas hortícola, frutícolas y vitícolas orgánicos en región del Maule y Biobio. + de 60 predios evaluados a la fec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80808"/>
                </a:solidFill>
                <a:latin typeface="Arial"/>
              </a:rPr>
              <a:t>Evaluación de sostenibilidad para poscosecha de frutas y hortalizas orgán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80808"/>
                </a:solidFill>
                <a:latin typeface="Arial"/>
              </a:rPr>
              <a:t>Manejo de plagas, enfermedades y malezas con insumos naturales, autoelaborados, hongos y nemátodos entomopatógenos para sistemas orgán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28204_Universidad_Catolica_del_Maule"/>
          <p:cNvPicPr/>
          <p:nvPr/>
        </p:nvPicPr>
        <p:blipFill>
          <a:blip r:embed="rId1"/>
          <a:stretch/>
        </p:blipFill>
        <p:spPr>
          <a:xfrm>
            <a:off x="4284720" y="260280"/>
            <a:ext cx="9842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cencia en Preg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pistemología Agroecológica. IV 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seño y Manejo de sistemas agropecuarios. V 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loque Producción Vegetal. III añ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sis y Memor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ás de 20 tesis de grado en Agricultura Orgá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tensión y Vincul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ursos en agricultura orgánica, viticultura, fruticultura y biodinámica. En conjunto con AG Orgánicos del Centro Sur y Agroecología Lt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imer seminario nacional de agroecología. SOCLA (Sociedad Científica Latinoamericana de Agroecología) Octub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aciones experimenta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ral: 11há viñas orgánicas desde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Niches: 10há certificadas desde 2003, hortalizas, cereales, ganado, entre o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oto1"/>
          <p:cNvPicPr/>
          <p:nvPr/>
        </p:nvPicPr>
        <p:blipFill>
          <a:blip r:embed="rId1"/>
          <a:stretch/>
        </p:blipFill>
        <p:spPr>
          <a:xfrm>
            <a:off x="395280" y="6093000"/>
            <a:ext cx="830592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cate y evaluación de ecotípos de trigo para cultivo orgá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ejo orgánico de Berries arbust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ociación de cultivos; Estrategias de nutrición orgánica y biofertilización; Ecoeficiencia en sistemas agrícolas (energía, CO2, agua); Agrodivers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ocencia en Pregrado y Post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pregrado  Agricultura Orgánica y la de Agroecológica, calidad de electivos de especial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postgrado dos Magíster que contemplan el área de especialización en Agroecológica y Agricultura Orgánica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UFRO"/>
          <p:cNvPicPr/>
          <p:nvPr/>
        </p:nvPicPr>
        <p:blipFill>
          <a:blip r:embed="rId1"/>
          <a:stretch/>
        </p:blipFill>
        <p:spPr>
          <a:xfrm>
            <a:off x="3708360" y="404640"/>
            <a:ext cx="1905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sis y Memori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versos trabajos de título y tesis de Magíster en el área de agricultura orgánica y agroec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tensión y Vinculación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ías de Campo, Seminarios, Talleres realizado para pro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lizara en conjunto con la universidad de Talca el V Simposio Internacional de Agricultura Orgánica. 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ción experimen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módulo de Agricultura Orgánica de 7 hectá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vineta"/>
          <p:cNvPicPr/>
          <p:nvPr/>
        </p:nvPicPr>
        <p:blipFill>
          <a:blip r:embed="rId1"/>
          <a:stretch/>
        </p:blipFill>
        <p:spPr>
          <a:xfrm>
            <a:off x="900000" y="5810400"/>
            <a:ext cx="7429680" cy="1047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755640" y="5589720"/>
            <a:ext cx="100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vesti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aluación de uso de miel orgánica para la elaboración de Hidromiel y vinagre de Mi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tilización del vetiver como una alternativa para mejorar suelos contaminados y eros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ción de vino 100% orgá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aboración de compost de calidad para los pequeños agricul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ocencia en Pregra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ller de Agricultura ecológica en el II semestre de la carr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icultura susten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 transversal en las asignaturas de Edafología, Fertilidad, MIP, Viticultura entre o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UDLA"/>
          <p:cNvPicPr/>
          <p:nvPr/>
        </p:nvPicPr>
        <p:blipFill>
          <a:blip r:embed="rId1"/>
          <a:stretch/>
        </p:blipFill>
        <p:spPr>
          <a:xfrm>
            <a:off x="3276720" y="476280"/>
            <a:ext cx="2419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sis y Memori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s de 20 tesis relacionadas con la agricultura orgá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tensión y Vinculación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izador del I y II Simposio Internacional de Agricultura Orgán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ías de Campo, Seminarios, Talleres realizado para agricultores, estudiantes y publico intere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ciones experiment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 hectáreas bajo certificación orgánica. Donde se producen Hortalizas al aire libre e invernaderos, bodega de vinificación y fru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DSCN0998"/>
          <p:cNvPicPr/>
          <p:nvPr/>
        </p:nvPicPr>
        <p:blipFill>
          <a:blip r:embed="rId1"/>
          <a:stretch/>
        </p:blipFill>
        <p:spPr>
          <a:xfrm>
            <a:off x="1116000" y="4797360"/>
            <a:ext cx="2687760" cy="206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DSCN1258"/>
          <p:cNvPicPr/>
          <p:nvPr/>
        </p:nvPicPr>
        <p:blipFill>
          <a:blip r:embed="rId2"/>
          <a:stretch/>
        </p:blipFill>
        <p:spPr>
          <a:xfrm>
            <a:off x="3780000" y="4797360"/>
            <a:ext cx="2692080" cy="206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DSCN0893"/>
          <p:cNvPicPr/>
          <p:nvPr/>
        </p:nvPicPr>
        <p:blipFill>
          <a:blip r:embed="rId3"/>
          <a:stretch/>
        </p:blipFill>
        <p:spPr>
          <a:xfrm>
            <a:off x="6443640" y="4797360"/>
            <a:ext cx="1514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20:22:20Z</dcterms:created>
  <dc:creator>123456</dc:creator>
  <dc:description/>
  <dc:language>en-US</dc:language>
  <cp:lastModifiedBy>gpino</cp:lastModifiedBy>
  <dcterms:modified xsi:type="dcterms:W3CDTF">2010-12-27T20:41:37Z</dcterms:modified>
  <cp:revision>13</cp:revision>
  <dc:subject/>
  <dc:title>Diapositiva 1</dc:title>
</cp:coreProperties>
</file>